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E76-CBB8-4903-9832-AA001A3C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439-0086-4BC4-AB93-786203EB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A8A-168F-460F-B296-295F4CD3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2FF-891D-4A3E-9EFB-97A98B62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4281-3029-4023-A9FA-4C33A79E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5AB8-2A23-43D3-A1EC-E16605AB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5E19-076E-4CD7-9618-E6916B1A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B556-0194-4830-B068-8B3EFADF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CECC-3A68-4F69-A2BE-B31746B3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153F-9266-4B59-A8DA-D276B0C9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C4A3-0341-4B1B-94BE-CE49F68E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1D2-CCB1-4D60-AD08-6B8C504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75C4-6E6D-43E1-9F3D-4AF1330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6220-F598-4D16-BC51-C22E9DB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32A3-BD73-4E55-8FD3-5CB6F1AC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63F2-55CA-4405-8C7E-1F58FE2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8931-4254-46E7-A42E-5F826EEF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D45-C43B-4297-9D8D-0E0EEAD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0A7-3FE0-4DCF-B219-126C72A4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F9A-0A24-49C9-9C1F-F83E263F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9AF-0237-4A77-B39E-2277C7F5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6CB-E4A4-4395-BC73-B9D89E1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BE5-930D-492D-999B-82B69D08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4FA-B84D-485A-B073-CAB1D76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A97A-1ACF-4FED-B029-78D0CD1DE2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E4D9-BF55-4019-9CA8-AEAC49FBC3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bout ch.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 poets assignment i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h. 3 for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rankenstein Ch. 1 Ques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arrator’s background? What is his full name? Where is he fr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tory of the man's mother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oline Beau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How does the man feel toward his parents, and what responsibilities does he feel they had toward hi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zabeth Lavenz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hat is her story? What gift does the man's mother give hi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Cl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hat is his relation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Victor characterize the interests and characters of Clerval, Elizabeth, and himsel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46:13Z</dcterms:created>
  <dc:creator>Angie</dc:creator>
  <dc:description/>
  <dc:language>en-US</dc:language>
  <cp:lastModifiedBy>Angie</cp:lastModifiedBy>
  <dcterms:modified xsi:type="dcterms:W3CDTF">2009-09-22T04:52:34Z</dcterms:modified>
  <cp:revision>1</cp:revision>
  <dc:subject/>
  <dc:title>English</dc:title>
</cp:coreProperties>
</file>